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8.jpeg" ContentType="image/jpeg"/>
  <Override PartName="/ppt/media/image5.png" ContentType="image/png"/>
  <Override PartName="/ppt/media/image14.jpeg" ContentType="image/jpeg"/>
  <Override PartName="/ppt/media/image13.png" ContentType="image/png"/>
  <Override PartName="/ppt/media/chimes.wav" ContentType="audio/x-wav"/>
  <Override PartName="/ppt/media/image12.png" ContentType="image/png"/>
  <Override PartName="/ppt/media/image7.png" ContentType="image/png"/>
  <Override PartName="/ppt/media/image1.png" ContentType="image/png"/>
  <Override PartName="/ppt/media/image3.jpeg" ContentType="image/jpeg"/>
  <Override PartName="/ppt/media/projctor.wav" ContentType="audio/x-wav"/>
  <Override PartName="/ppt/media/image9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4A48-F727-44FD-970B-4C53127B2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E72B-9712-44C8-9C46-176B38B5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3205-ED3A-407C-95CF-D6AF7B0E0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4104-2A55-4439-8EF6-F8C6625DD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5671-C1A9-4365-AAB2-A4553D6A2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D7F1-4648-4A9D-9847-727DD446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87ED-B5A0-43CB-B334-2B36CA52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2BCA-B110-4EA2-AA65-D9ADED25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F5AE-1CE0-45DB-86EA-FD309FCC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BE4F-482E-4682-9C12-8841DF1C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A37E-117A-46B5-9C56-2CE6BD61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B611-5863-4227-AA1A-027B0251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3BAE-FB32-4BCE-BB8B-220503FC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86AD-8283-436F-997B-DA053B7D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C599-95F6-43D6-B45B-77756132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F5A1-FCB2-46D8-BBF4-9149080A3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1090-CA90-4A00-966B-E4DD80E64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B7E7-E6B7-46C2-881B-511A2723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6C4B-880D-4945-9154-7D805928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662C-EB5B-40F6-9684-CD2B61FF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D861-A9FF-41AF-A880-0CF8FA5A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507F-E816-456E-931F-F679E97F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51AA-B113-4ABD-8C1B-7CB5E220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0EDC-F20A-4FFA-89E3-1CCD1797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77F6-5811-43F8-8940-2A20740E638C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887E-01F7-4263-B05D-6E412E3078A9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7280" y="234900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e22600"/>
                </a:solidFill>
                <a:latin typeface="Verdana"/>
              </a:rPr>
              <a:t>比 例 尺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2411280" y="620640"/>
            <a:ext cx="46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北师大版六年级数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50920" y="404640"/>
            <a:ext cx="4174920" cy="6426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比例尺：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1239840"/>
            <a:ext cx="3743280" cy="5814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比例尺：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: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54160" y="2022480"/>
            <a:ext cx="3666960" cy="1191240"/>
            <a:chOff x="254160" y="2022480"/>
            <a:chExt cx="3666960" cy="1191240"/>
          </a:xfrm>
        </p:grpSpPr>
        <p:sp>
          <p:nvSpPr>
            <p:cNvPr id="125" name=""/>
            <p:cNvSpPr/>
            <p:nvPr/>
          </p:nvSpPr>
          <p:spPr>
            <a:xfrm>
              <a:off x="254160" y="2095560"/>
              <a:ext cx="3046680" cy="10792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03920" y="2022480"/>
              <a:ext cx="3517200" cy="1191240"/>
              <a:chOff x="403920" y="2022480"/>
              <a:chExt cx="3517200" cy="119124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1091520" y="2022480"/>
                <a:ext cx="2829600" cy="1191240"/>
                <a:chOff x="1091520" y="2022480"/>
                <a:chExt cx="2829600" cy="11912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1091520" y="2022480"/>
                  <a:ext cx="282960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0000"/>
                      </a:solidFill>
                      <a:latin typeface="Arial"/>
                    </a:rPr>
                    <a:t>1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0000"/>
                      </a:solidFill>
                      <a:latin typeface="Arial"/>
                    </a:rPr>
                    <a:t>400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043000" y="2598480"/>
                  <a:ext cx="9129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" name=""/>
              <p:cNvSpPr/>
              <p:nvPr/>
            </p:nvSpPr>
            <p:spPr>
              <a:xfrm>
                <a:off x="403920" y="2305080"/>
                <a:ext cx="125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比例尺</a:t>
                </a:r>
                <a:r>
                  <a:rPr b="1" lang="zh-CN" sz="32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: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" name=""/>
          <p:cNvSpPr/>
          <p:nvPr/>
        </p:nvSpPr>
        <p:spPr>
          <a:xfrm>
            <a:off x="250920" y="4221000"/>
            <a:ext cx="4032000" cy="5814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比例尺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:1:1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5084640"/>
            <a:ext cx="4032000" cy="5814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比例尺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:1:45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07920" y="2924280"/>
            <a:ext cx="418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表示图上距离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厘米相当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实际距离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(  )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米或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(  )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千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3386160"/>
            <a:ext cx="3671640" cy="581400"/>
          </a:xfrm>
          <a:prstGeom prst="rect">
            <a:avLst/>
          </a:prstGeom>
          <a:solidFill>
            <a:srgbClr val="ff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比例尺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:1:2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70880" y="333360"/>
            <a:ext cx="2977920" cy="6426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比例尺：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1268280"/>
            <a:ext cx="3527280" cy="5814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比例尺：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: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49480" y="2050920"/>
            <a:ext cx="3468600" cy="1191240"/>
            <a:chOff x="249480" y="2050920"/>
            <a:chExt cx="3468600" cy="1191240"/>
          </a:xfrm>
        </p:grpSpPr>
        <p:sp>
          <p:nvSpPr>
            <p:cNvPr id="138" name=""/>
            <p:cNvSpPr/>
            <p:nvPr/>
          </p:nvSpPr>
          <p:spPr>
            <a:xfrm>
              <a:off x="249480" y="2124000"/>
              <a:ext cx="2881080" cy="10792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357840" y="2050920"/>
              <a:ext cx="3360240" cy="1191240"/>
              <a:chOff x="357840" y="2050920"/>
              <a:chExt cx="3360240" cy="119124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1041480" y="2050920"/>
                <a:ext cx="2676600" cy="1191240"/>
                <a:chOff x="1041480" y="2050920"/>
                <a:chExt cx="2676600" cy="119124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1041480" y="2050920"/>
                  <a:ext cx="267660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0000"/>
                      </a:solidFill>
                      <a:latin typeface="Arial"/>
                    </a:rPr>
                    <a:t>1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0000"/>
                      </a:solidFill>
                      <a:latin typeface="Arial"/>
                    </a:rPr>
                    <a:t>400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941480" y="2626920"/>
                  <a:ext cx="863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>
                <a:off x="357840" y="2333520"/>
                <a:ext cx="125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比例尺</a:t>
                </a:r>
                <a:r>
                  <a:rPr b="1" lang="zh-CN" sz="32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: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4" name=""/>
          <p:cNvSpPr/>
          <p:nvPr/>
        </p:nvSpPr>
        <p:spPr>
          <a:xfrm>
            <a:off x="250920" y="3386160"/>
            <a:ext cx="3671640" cy="581400"/>
          </a:xfrm>
          <a:prstGeom prst="rect">
            <a:avLst/>
          </a:prstGeom>
          <a:solidFill>
            <a:srgbClr val="ff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比例尺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:1:2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4249800"/>
            <a:ext cx="3816360" cy="5814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比例尺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:1:1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9120" y="5113440"/>
            <a:ext cx="3447720" cy="5814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比例尺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:1:45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64720" y="2590920"/>
            <a:ext cx="198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比例尺的特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9880" y="327456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一个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38480" y="396036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上距离和实际距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单位是统一的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14800" y="50112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比例尺的前项一般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404640"/>
            <a:ext cx="4174920" cy="6426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比例尺：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5084640"/>
            <a:ext cx="4032000" cy="5814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比例尺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:1:45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10188720" cy="1303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46280" y="2176560"/>
            <a:ext cx="71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例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什么意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2997360"/>
            <a:ext cx="72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图上距离是实际距离的几分之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9960" y="3902040"/>
            <a:ext cx="70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际距离是图上距离的多少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9960" y="4968720"/>
            <a:ext cx="847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图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的距离表示实际距离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8900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二 合作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50920" y="620640"/>
            <a:ext cx="97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比例尺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00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地图上，图上距离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厘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表示实际距离（    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厘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也就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（    ）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57680" y="3213000"/>
            <a:ext cx="70063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比例尺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00000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地图上，图上距离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实际距离的（        ），实际距离是图上距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（         ）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16360" y="4365720"/>
            <a:ext cx="1368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774520" y="3860640"/>
            <a:ext cx="1567440" cy="1025280"/>
            <a:chOff x="2774520" y="3860640"/>
            <a:chExt cx="1567440" cy="1025280"/>
          </a:xfrm>
        </p:grpSpPr>
        <p:sp>
          <p:nvSpPr>
            <p:cNvPr id="165" name=""/>
            <p:cNvSpPr/>
            <p:nvPr/>
          </p:nvSpPr>
          <p:spPr>
            <a:xfrm>
              <a:off x="3349800" y="38606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74520" y="4365360"/>
              <a:ext cx="156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4000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31840" y="4083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64880" y="1916280"/>
            <a:ext cx="651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比例尺是１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5000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地图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上距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厘米表示实际距离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     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千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41800" y="249228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78160" y="1125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88360" y="4653000"/>
            <a:ext cx="175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468360" y="404640"/>
            <a:ext cx="8424720" cy="6324840"/>
            <a:chOff x="468360" y="404640"/>
            <a:chExt cx="8424720" cy="6324840"/>
          </a:xfrm>
        </p:grpSpPr>
        <p:pic>
          <p:nvPicPr>
            <p:cNvPr id="173" name="" descr=""/>
            <p:cNvPicPr/>
            <p:nvPr/>
          </p:nvPicPr>
          <p:blipFill>
            <a:blip r:embed="rId2"/>
            <a:stretch/>
          </p:blipFill>
          <p:spPr>
            <a:xfrm>
              <a:off x="468360" y="404640"/>
              <a:ext cx="8424720" cy="632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6084720" y="2852640"/>
              <a:ext cx="719280" cy="129708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179280" y="4724280"/>
            <a:ext cx="849636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在这副图中，量得南京到北京的图上距离是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4.5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厘米，表示实际距离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900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千米。你能计算出这副图的比例尺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0" y="6010200"/>
            <a:ext cx="1763640" cy="847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0" y="18900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二 合作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5800" y="11430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Arial"/>
              </a:rPr>
              <a:t>900</a:t>
            </a:r>
            <a:r>
              <a:rPr b="0" lang="zh-CN" sz="4000" spc="-1" strike="noStrike">
                <a:solidFill>
                  <a:srgbClr val="0000cc"/>
                </a:solidFill>
                <a:latin typeface="Arial"/>
              </a:rPr>
              <a:t>千米</a:t>
            </a:r>
            <a:r>
              <a:rPr b="0" lang="zh-CN" sz="4000" spc="-1" strike="noStrike">
                <a:solidFill>
                  <a:srgbClr val="0000cc"/>
                </a:solidFill>
                <a:latin typeface="Arial"/>
              </a:rPr>
              <a:t>=90000000</a:t>
            </a:r>
            <a:r>
              <a:rPr b="0" lang="zh-CN" sz="4000" spc="-1" strike="noStrike">
                <a:solidFill>
                  <a:srgbClr val="0000cc"/>
                </a:solidFill>
                <a:latin typeface="Arial"/>
              </a:rPr>
              <a:t>厘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85800" y="2209680"/>
            <a:ext cx="2743200" cy="2557440"/>
            <a:chOff x="685800" y="2209680"/>
            <a:chExt cx="2743200" cy="2557440"/>
          </a:xfrm>
        </p:grpSpPr>
        <p:sp>
          <p:nvSpPr>
            <p:cNvPr id="180" name=""/>
            <p:cNvSpPr/>
            <p:nvPr/>
          </p:nvSpPr>
          <p:spPr>
            <a:xfrm>
              <a:off x="685800" y="2209680"/>
              <a:ext cx="2743200" cy="25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cc"/>
                  </a:solidFill>
                  <a:latin typeface="Arial"/>
                </a:rPr>
                <a:t>4.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cc"/>
                  </a:solidFill>
                  <a:latin typeface="Arial"/>
                </a:rPr>
                <a:t>9000000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38080" y="304812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507480" y="2209680"/>
            <a:ext cx="3731400" cy="1630440"/>
            <a:chOff x="3507480" y="2209680"/>
            <a:chExt cx="3731400" cy="1630440"/>
          </a:xfrm>
        </p:grpSpPr>
        <p:sp>
          <p:nvSpPr>
            <p:cNvPr id="183" name=""/>
            <p:cNvSpPr/>
            <p:nvPr/>
          </p:nvSpPr>
          <p:spPr>
            <a:xfrm>
              <a:off x="3507480" y="2666880"/>
              <a:ext cx="47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cc"/>
                  </a:solidFill>
                  <a:latin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14800" y="2209680"/>
              <a:ext cx="312408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cc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cc"/>
                  </a:solidFill>
                  <a:latin typeface="Arial"/>
                </a:rPr>
                <a:t>2000000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43400" y="304812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28600" y="4191120"/>
            <a:ext cx="8610480" cy="1630440"/>
            <a:chOff x="228600" y="4191120"/>
            <a:chExt cx="8610480" cy="1630440"/>
          </a:xfrm>
        </p:grpSpPr>
        <p:sp>
          <p:nvSpPr>
            <p:cNvPr id="187" name=""/>
            <p:cNvSpPr/>
            <p:nvPr/>
          </p:nvSpPr>
          <p:spPr>
            <a:xfrm>
              <a:off x="228600" y="4724280"/>
              <a:ext cx="5791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cc"/>
                  </a:solidFill>
                  <a:latin typeface="Arial"/>
                </a:rPr>
                <a:t>答：这幅图的比例尺是  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5715000" y="4191120"/>
              <a:ext cx="3124080" cy="1630440"/>
              <a:chOff x="5715000" y="4191120"/>
              <a:chExt cx="3124080" cy="1630440"/>
            </a:xfrm>
          </p:grpSpPr>
          <p:sp>
            <p:nvSpPr>
              <p:cNvPr id="189" name=""/>
              <p:cNvSpPr/>
              <p:nvPr/>
            </p:nvSpPr>
            <p:spPr>
              <a:xfrm>
                <a:off x="5715000" y="4191120"/>
                <a:ext cx="3124080" cy="163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cc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cc"/>
                    </a:solidFill>
                    <a:latin typeface="Arial"/>
                  </a:rPr>
                  <a:t>20000000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019920" y="4952880"/>
                <a:ext cx="2514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1229760" y="404640"/>
            <a:ext cx="5853240" cy="6193080"/>
            <a:chOff x="1229760" y="404640"/>
            <a:chExt cx="5853240" cy="6193080"/>
          </a:xfrm>
        </p:grpSpPr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2339640" y="1844640"/>
              <a:ext cx="4743360" cy="475308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grpSp>
          <p:nvGrpSpPr>
            <p:cNvPr id="193" name=""/>
            <p:cNvGrpSpPr/>
            <p:nvPr/>
          </p:nvGrpSpPr>
          <p:grpSpPr>
            <a:xfrm>
              <a:off x="1229760" y="404640"/>
              <a:ext cx="4403160" cy="581400"/>
              <a:chOff x="1229760" y="404640"/>
              <a:chExt cx="4403160" cy="581400"/>
            </a:xfrm>
          </p:grpSpPr>
          <p:sp>
            <p:nvSpPr>
              <p:cNvPr id="194" name=""/>
              <p:cNvSpPr/>
              <p:nvPr/>
            </p:nvSpPr>
            <p:spPr>
              <a:xfrm>
                <a:off x="1229760" y="404640"/>
                <a:ext cx="1155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00"/>
                    </a:solidFill>
                    <a:latin typeface="Arial"/>
                    <a:ea typeface="黑体"/>
                  </a:rPr>
                  <a:t>比例尺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" name=""/>
              <p:cNvGrpSpPr/>
              <p:nvPr/>
            </p:nvGrpSpPr>
            <p:grpSpPr>
              <a:xfrm>
                <a:off x="2646720" y="404640"/>
                <a:ext cx="2986200" cy="576000"/>
                <a:chOff x="2646720" y="404640"/>
                <a:chExt cx="2986200" cy="576000"/>
              </a:xfrm>
            </p:grpSpPr>
            <p:grpSp>
              <p:nvGrpSpPr>
                <p:cNvPr id="196" name=""/>
                <p:cNvGrpSpPr/>
                <p:nvPr/>
              </p:nvGrpSpPr>
              <p:grpSpPr>
                <a:xfrm>
                  <a:off x="2842560" y="836280"/>
                  <a:ext cx="2376360" cy="144360"/>
                  <a:chOff x="2842560" y="836280"/>
                  <a:chExt cx="2376360" cy="14436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2842560" y="980640"/>
                    <a:ext cx="79200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3634560" y="980640"/>
                    <a:ext cx="79236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4426920" y="980640"/>
                    <a:ext cx="79200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2842560" y="836280"/>
                    <a:ext cx="0" cy="144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634560" y="836280"/>
                    <a:ext cx="0" cy="144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4426920" y="836280"/>
                    <a:ext cx="0" cy="144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5218920" y="836280"/>
                    <a:ext cx="0" cy="144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4" name=""/>
                <p:cNvSpPr/>
                <p:nvPr/>
              </p:nvSpPr>
              <p:spPr>
                <a:xfrm>
                  <a:off x="2646720" y="404640"/>
                  <a:ext cx="2986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0      10     20     30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米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5" name=""/>
          <p:cNvSpPr/>
          <p:nvPr/>
        </p:nvSpPr>
        <p:spPr>
          <a:xfrm>
            <a:off x="755640" y="11253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图上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厘米的距离相当于实际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米的距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57320" y="476280"/>
            <a:ext cx="18266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:1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651640" y="692280"/>
            <a:ext cx="504720" cy="360360"/>
          </a:xfrm>
          <a:prstGeom prst="rightArrow">
            <a:avLst>
              <a:gd name="adj1" fmla="val 50000"/>
              <a:gd name="adj2" fmla="val 35015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692360" y="1052640"/>
            <a:ext cx="43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00000" y="422100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图上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厘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距离相当于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实际距离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26920" y="261936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线段比例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00000" y="119700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数值比例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284720" y="1163520"/>
            <a:ext cx="3600360" cy="870840"/>
            <a:chOff x="4284720" y="1163520"/>
            <a:chExt cx="3600360" cy="870840"/>
          </a:xfrm>
        </p:grpSpPr>
        <p:sp>
          <p:nvSpPr>
            <p:cNvPr id="213" name=""/>
            <p:cNvSpPr/>
            <p:nvPr/>
          </p:nvSpPr>
          <p:spPr>
            <a:xfrm>
              <a:off x="4284720" y="1270080"/>
              <a:ext cx="360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1   100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16360" y="1163520"/>
              <a:ext cx="1079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：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4267080" y="3429000"/>
            <a:ext cx="1067040" cy="3049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040280" y="2666880"/>
            <a:ext cx="3344760" cy="896400"/>
            <a:chOff x="4040280" y="2666880"/>
            <a:chExt cx="3344760" cy="896400"/>
          </a:xfrm>
        </p:grpSpPr>
        <p:grpSp>
          <p:nvGrpSpPr>
            <p:cNvPr id="217" name=""/>
            <p:cNvGrpSpPr/>
            <p:nvPr/>
          </p:nvGrpSpPr>
          <p:grpSpPr>
            <a:xfrm>
              <a:off x="4316400" y="3311280"/>
              <a:ext cx="3068640" cy="252000"/>
              <a:chOff x="4316400" y="3311280"/>
              <a:chExt cx="3068640" cy="252000"/>
            </a:xfrm>
          </p:grpSpPr>
          <p:sp>
            <p:nvSpPr>
              <p:cNvPr id="218" name=""/>
              <p:cNvSpPr/>
              <p:nvPr/>
            </p:nvSpPr>
            <p:spPr>
              <a:xfrm>
                <a:off x="4316400" y="3563280"/>
                <a:ext cx="3068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16400" y="3311280"/>
                <a:ext cx="0" cy="252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339160" y="3311280"/>
                <a:ext cx="0" cy="252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361920" y="3311280"/>
                <a:ext cx="0" cy="252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85040" y="3311280"/>
                <a:ext cx="0" cy="252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4040280" y="2666880"/>
              <a:ext cx="30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114800" y="27432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30640" y="27702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19920" y="27432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010280" y="2743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616320" y="189000"/>
            <a:ext cx="7200000" cy="1932480"/>
            <a:chOff x="616320" y="189000"/>
            <a:chExt cx="7200000" cy="1932480"/>
          </a:xfrm>
        </p:grpSpPr>
        <p:grpSp>
          <p:nvGrpSpPr>
            <p:cNvPr id="229" name=""/>
            <p:cNvGrpSpPr/>
            <p:nvPr/>
          </p:nvGrpSpPr>
          <p:grpSpPr>
            <a:xfrm>
              <a:off x="616320" y="189000"/>
              <a:ext cx="3324600" cy="575640"/>
              <a:chOff x="616320" y="189000"/>
              <a:chExt cx="3324600" cy="57564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753840" y="620280"/>
                <a:ext cx="2376360" cy="144360"/>
                <a:chOff x="753840" y="620280"/>
                <a:chExt cx="2376360" cy="1443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753840" y="764640"/>
                  <a:ext cx="7920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545840" y="764640"/>
                  <a:ext cx="7923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338200" y="764640"/>
                  <a:ext cx="7920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53840" y="620280"/>
                  <a:ext cx="0" cy="144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545840" y="620280"/>
                  <a:ext cx="0" cy="144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2338200" y="620280"/>
                  <a:ext cx="0" cy="144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130200" y="620280"/>
                  <a:ext cx="0" cy="144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616320" y="189000"/>
                <a:ext cx="332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0      50     100     150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1308600" y="1052640"/>
              <a:ext cx="6507720" cy="1068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表示图上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厘米相当于实际距离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     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米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把这个比例尺改写成数值比例尺是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　　）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21360" y="2349360"/>
            <a:ext cx="7622280" cy="2077200"/>
            <a:chOff x="621360" y="2349360"/>
            <a:chExt cx="7622280" cy="2077200"/>
          </a:xfrm>
        </p:grpSpPr>
        <p:grpSp>
          <p:nvGrpSpPr>
            <p:cNvPr id="241" name=""/>
            <p:cNvGrpSpPr/>
            <p:nvPr/>
          </p:nvGrpSpPr>
          <p:grpSpPr>
            <a:xfrm>
              <a:off x="621360" y="2349360"/>
              <a:ext cx="3338280" cy="576000"/>
              <a:chOff x="621360" y="2349360"/>
              <a:chExt cx="3338280" cy="57600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766440" y="2781000"/>
                <a:ext cx="2376360" cy="144360"/>
                <a:chOff x="766440" y="2781000"/>
                <a:chExt cx="2376360" cy="1443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766440" y="2925360"/>
                  <a:ext cx="7920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558440" y="2925360"/>
                  <a:ext cx="7923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350800" y="2925360"/>
                  <a:ext cx="7920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66440" y="2781000"/>
                  <a:ext cx="0" cy="144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558440" y="2781000"/>
                  <a:ext cx="0" cy="144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350800" y="2781000"/>
                  <a:ext cx="0" cy="144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142800" y="2781000"/>
                  <a:ext cx="0" cy="144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" name=""/>
              <p:cNvSpPr/>
              <p:nvPr/>
            </p:nvSpPr>
            <p:spPr>
              <a:xfrm>
                <a:off x="621360" y="2349360"/>
                <a:ext cx="333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0      40     80     120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千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1329120" y="3357720"/>
              <a:ext cx="6914520" cy="1068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表示图上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厘米相当于实际距离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     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千米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把这个比例尺改写成数值比例尺是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　　  　   ）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324000" y="4653000"/>
            <a:ext cx="7919640" cy="2005560"/>
            <a:chOff x="324000" y="4653000"/>
            <a:chExt cx="7919640" cy="2005560"/>
          </a:xfrm>
        </p:grpSpPr>
        <p:grpSp>
          <p:nvGrpSpPr>
            <p:cNvPr id="253" name=""/>
            <p:cNvGrpSpPr/>
            <p:nvPr/>
          </p:nvGrpSpPr>
          <p:grpSpPr>
            <a:xfrm>
              <a:off x="324000" y="4653000"/>
              <a:ext cx="3671640" cy="647640"/>
              <a:chOff x="324000" y="4653000"/>
              <a:chExt cx="3671640" cy="647640"/>
            </a:xfrm>
          </p:grpSpPr>
          <p:sp>
            <p:nvSpPr>
              <p:cNvPr id="254" name=""/>
              <p:cNvSpPr/>
              <p:nvPr/>
            </p:nvSpPr>
            <p:spPr>
              <a:xfrm>
                <a:off x="324000" y="4653000"/>
                <a:ext cx="367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0       60     120    180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千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502920" y="5156280"/>
                <a:ext cx="2844000" cy="144360"/>
                <a:chOff x="502920" y="5156280"/>
                <a:chExt cx="2844000" cy="14436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502920" y="5300640"/>
                  <a:ext cx="4748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977760" y="5300640"/>
                  <a:ext cx="475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452960" y="5300640"/>
                  <a:ext cx="4748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2920" y="5156280"/>
                  <a:ext cx="0" cy="144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452960" y="5156280"/>
                  <a:ext cx="0" cy="144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921320" y="5300640"/>
                  <a:ext cx="475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396520" y="5300640"/>
                  <a:ext cx="4748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871720" y="5300640"/>
                  <a:ext cx="475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396520" y="5156280"/>
                  <a:ext cx="0" cy="144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3346920" y="5156280"/>
                  <a:ext cx="0" cy="144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6" name=""/>
            <p:cNvSpPr/>
            <p:nvPr/>
          </p:nvSpPr>
          <p:spPr>
            <a:xfrm>
              <a:off x="1329120" y="5589720"/>
              <a:ext cx="6914520" cy="1068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表示图上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厘米相当于实际距离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     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千米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把这个比例尺改写成数值比例尺是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　　　）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6229080" y="1052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629040" y="1557360"/>
            <a:ext cx="14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:5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3440" y="33577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506280" y="3860640"/>
            <a:ext cx="212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:4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941800" y="55897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506280" y="6093000"/>
            <a:ext cx="212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:6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24000" y="549360"/>
            <a:ext cx="2320920" cy="66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学习目标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3130200"/>
            <a:ext cx="68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具体情境，认识比例尺，能根据图上距离，实际距离，比例尺中的两个量求第三个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用比例尺的有关知识，通过测量、绘图、估算、计算等活动，学会解决生活中的一些实际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一步体会数学与日常生活的密切联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685800" y="7621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说出下面各比例尺表示的意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685800" cy="1066680"/>
          </a:xfrm>
          <a:prstGeom prst="rect">
            <a:avLst/>
          </a:prstGeom>
          <a:ln w="0">
            <a:noFill/>
          </a:ln>
        </p:spPr>
      </p:pic>
      <p:grpSp>
        <p:nvGrpSpPr>
          <p:cNvPr id="275" name=""/>
          <p:cNvGrpSpPr/>
          <p:nvPr/>
        </p:nvGrpSpPr>
        <p:grpSpPr>
          <a:xfrm>
            <a:off x="838080" y="4724280"/>
            <a:ext cx="4114800" cy="843120"/>
            <a:chOff x="838080" y="4724280"/>
            <a:chExt cx="4114800" cy="843120"/>
          </a:xfrm>
        </p:grpSpPr>
        <p:pic>
          <p:nvPicPr>
            <p:cNvPr id="276" name="" descr=""/>
            <p:cNvPicPr/>
            <p:nvPr/>
          </p:nvPicPr>
          <p:blipFill>
            <a:blip r:embed="rId3"/>
            <a:stretch/>
          </p:blipFill>
          <p:spPr>
            <a:xfrm>
              <a:off x="838080" y="5257800"/>
              <a:ext cx="3048120" cy="309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7" name=""/>
            <p:cNvGrpSpPr/>
            <p:nvPr/>
          </p:nvGrpSpPr>
          <p:grpSpPr>
            <a:xfrm>
              <a:off x="838080" y="4724280"/>
              <a:ext cx="4114800" cy="459720"/>
              <a:chOff x="838080" y="4724280"/>
              <a:chExt cx="4114800" cy="459720"/>
            </a:xfrm>
          </p:grpSpPr>
          <p:sp>
            <p:nvSpPr>
              <p:cNvPr id="278" name=""/>
              <p:cNvSpPr/>
              <p:nvPr/>
            </p:nvSpPr>
            <p:spPr>
              <a:xfrm>
                <a:off x="838080" y="47242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752480" y="4724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66880" y="47242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504960" y="4724280"/>
                <a:ext cx="144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120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千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2" name=""/>
          <p:cNvSpPr/>
          <p:nvPr/>
        </p:nvSpPr>
        <p:spPr>
          <a:xfrm>
            <a:off x="2895480" y="16765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图上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厘米表示实际距离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50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米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19520" y="22860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实际距离是图上距离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50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倍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95480" y="2971800"/>
            <a:ext cx="603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图上距离是实际距离的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86" name="" descr=""/>
          <p:cNvPicPr/>
          <p:nvPr/>
        </p:nvPicPr>
        <p:blipFill>
          <a:blip r:embed="rId4"/>
          <a:stretch/>
        </p:blipFill>
        <p:spPr>
          <a:xfrm>
            <a:off x="1066680" y="1600200"/>
            <a:ext cx="1067040" cy="16765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4352400" y="5715000"/>
            <a:ext cx="342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图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厘米表示实际距离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79280" y="333360"/>
            <a:ext cx="88203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判断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小华在绘制学校操场平面图时，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厘米的线段表示地面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米的距离，这幅图的比例尺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  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5920" y="5157720"/>
            <a:ext cx="841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一幅图的比例尺是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︰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这幅图所表示的实际距离大于图上距离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.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50920" y="3141720"/>
            <a:ext cx="808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某机器零件设计图纸所用的比例尺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说明了该零件的实际长度与图上是一样的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   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(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 rot="5400000">
            <a:off x="6588000" y="242100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×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92" name=""/>
          <p:cNvSpPr txBox="1"/>
          <p:nvPr/>
        </p:nvSpPr>
        <p:spPr>
          <a:xfrm rot="5400000">
            <a:off x="6659640" y="59500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×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93" name=""/>
          <p:cNvSpPr txBox="1"/>
          <p:nvPr/>
        </p:nvSpPr>
        <p:spPr>
          <a:xfrm rot="5400000">
            <a:off x="6516720" y="443700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√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0" y="304920"/>
            <a:ext cx="9144000" cy="5577120"/>
            <a:chOff x="0" y="304920"/>
            <a:chExt cx="9144000" cy="5577120"/>
          </a:xfrm>
        </p:grpSpPr>
        <p:sp>
          <p:nvSpPr>
            <p:cNvPr id="295" name=""/>
            <p:cNvSpPr/>
            <p:nvPr/>
          </p:nvSpPr>
          <p:spPr>
            <a:xfrm>
              <a:off x="539640" y="304920"/>
              <a:ext cx="4824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ff0000"/>
                  </a:solidFill>
                  <a:latin typeface="Arial"/>
                </a:rPr>
                <a:t>选择题：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1673280"/>
              <a:ext cx="914400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zh-CN" sz="5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5400" spc="-1" strike="noStrike">
                  <a:solidFill>
                    <a:srgbClr val="000000"/>
                  </a:solidFill>
                  <a:latin typeface="Arial"/>
                </a:rPr>
                <a:t>）用</a:t>
              </a:r>
              <a:r>
                <a:rPr b="0" lang="zh-CN" sz="5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zh-CN" sz="5400" spc="-1" strike="noStrike">
                  <a:solidFill>
                    <a:srgbClr val="000000"/>
                  </a:solidFill>
                  <a:latin typeface="Arial"/>
                </a:rPr>
                <a:t>厘米表示实际距离</a:t>
              </a:r>
              <a:r>
                <a:rPr b="0" lang="zh-CN" sz="5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0" lang="zh-CN" sz="5400" spc="-1" strike="noStrike">
                  <a:solidFill>
                    <a:srgbClr val="000000"/>
                  </a:solidFill>
                  <a:latin typeface="Arial"/>
                </a:rPr>
                <a:t>千米，这副图的比例尺是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0000"/>
                  </a:solidFill>
                  <a:latin typeface="Arial"/>
                </a:rPr>
                <a:t>（     ）。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0000"/>
                  </a:solidFill>
                  <a:latin typeface="Arial"/>
                </a:rPr>
                <a:t>A  1∶900000     B  1∶90000    C   1∶900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914400" y="327672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013440" y="148428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179280" y="549360"/>
            <a:ext cx="8964720" cy="6308280"/>
            <a:chOff x="179280" y="549360"/>
            <a:chExt cx="8964720" cy="6308280"/>
          </a:xfrm>
        </p:grpSpPr>
        <p:sp>
          <p:nvSpPr>
            <p:cNvPr id="300" name=""/>
            <p:cNvSpPr/>
            <p:nvPr/>
          </p:nvSpPr>
          <p:spPr>
            <a:xfrm>
              <a:off x="179280" y="549360"/>
              <a:ext cx="896472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zh-CN" sz="5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54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r>
                <a:rPr b="0" lang="zh-CN" sz="5400" spc="-1" strike="noStrike">
                  <a:solidFill>
                    <a:srgbClr val="000000"/>
                  </a:solidFill>
                  <a:latin typeface="Arial"/>
                </a:rPr>
                <a:t>1∶240000000</a:t>
              </a:r>
              <a:r>
                <a:rPr b="0" lang="zh-CN" sz="5400" spc="-1" strike="noStrike">
                  <a:solidFill>
                    <a:srgbClr val="000000"/>
                  </a:solidFill>
                  <a:latin typeface="Arial"/>
                </a:rPr>
                <a:t>表示图上</a:t>
              </a:r>
              <a:r>
                <a:rPr b="0" lang="zh-CN" sz="5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5400" spc="-1" strike="noStrike">
                  <a:solidFill>
                    <a:srgbClr val="000000"/>
                  </a:solidFill>
                  <a:latin typeface="Arial"/>
                </a:rPr>
                <a:t>厘米，实际是（  ）千米。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0000"/>
                  </a:solidFill>
                  <a:latin typeface="Arial"/>
                </a:rPr>
                <a:t>A    24                B    240              C   2400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1" name="" descr=""/>
            <p:cNvPicPr/>
            <p:nvPr/>
          </p:nvPicPr>
          <p:blipFill>
            <a:blip r:embed="rId2"/>
            <a:stretch/>
          </p:blipFill>
          <p:spPr>
            <a:xfrm>
              <a:off x="5364000" y="4098960"/>
              <a:ext cx="3581640" cy="2758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1476360" y="1052640"/>
            <a:ext cx="4248000" cy="143964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440" y="-72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508720" y="242100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0" y="1557360"/>
            <a:ext cx="9144000" cy="5133960"/>
            <a:chOff x="0" y="1557360"/>
            <a:chExt cx="9144000" cy="5133960"/>
          </a:xfrm>
        </p:grpSpPr>
        <p:sp>
          <p:nvSpPr>
            <p:cNvPr id="306" name=""/>
            <p:cNvSpPr/>
            <p:nvPr/>
          </p:nvSpPr>
          <p:spPr>
            <a:xfrm>
              <a:off x="0" y="1557360"/>
              <a:ext cx="91440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zh-CN" sz="5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5400" spc="-1" strike="noStrike">
                  <a:solidFill>
                    <a:srgbClr val="000000"/>
                  </a:solidFill>
                  <a:latin typeface="Arial"/>
                </a:rPr>
                <a:t>）                    表示图上</a:t>
              </a:r>
              <a:r>
                <a:rPr b="0" lang="zh-CN" sz="5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5400" spc="-1" strike="noStrike">
                  <a:solidFill>
                    <a:srgbClr val="000000"/>
                  </a:solidFill>
                  <a:latin typeface="Arial"/>
                </a:rPr>
                <a:t>厘米相当于实际（  ）千米。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zh-CN" sz="5400" spc="-1" strike="noStrike">
                  <a:solidFill>
                    <a:srgbClr val="000000"/>
                  </a:solidFill>
                  <a:latin typeface="Arial"/>
                </a:rPr>
                <a:t>A   650          B  1300 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zh-CN" sz="5400" spc="-1" strike="noStrike">
                  <a:solidFill>
                    <a:srgbClr val="000000"/>
                  </a:solidFill>
                  <a:latin typeface="Arial"/>
                </a:rPr>
                <a:t>C  1950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7" name="" descr=""/>
            <p:cNvPicPr/>
            <p:nvPr/>
          </p:nvPicPr>
          <p:blipFill>
            <a:blip r:embed="rId3"/>
            <a:stretch/>
          </p:blipFill>
          <p:spPr>
            <a:xfrm>
              <a:off x="5364000" y="4005360"/>
              <a:ext cx="3581640" cy="268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907920"/>
            <a:ext cx="91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）一个精密零件的长度只有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毫米，画在一张图纸上是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毫米，这副图的比例尺是（           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A  70∶3.5   B   20 ∶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059200" y="350532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5364000" y="4005360"/>
            <a:ext cx="3581640" cy="268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468360" y="620640"/>
            <a:ext cx="8353440" cy="5668920"/>
            <a:chOff x="468360" y="620640"/>
            <a:chExt cx="8353440" cy="5668920"/>
          </a:xfrm>
        </p:grpSpPr>
        <p:sp>
          <p:nvSpPr>
            <p:cNvPr id="312" name=""/>
            <p:cNvSpPr/>
            <p:nvPr/>
          </p:nvSpPr>
          <p:spPr>
            <a:xfrm>
              <a:off x="468360" y="620640"/>
              <a:ext cx="8353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我们学校操场的长是</a:t>
              </a:r>
              <a:r>
                <a:rPr b="0" lang="zh-CN" sz="5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00</a:t>
              </a:r>
              <a:r>
                <a:rPr b="0" lang="zh-CN" sz="5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米，宽是</a:t>
              </a:r>
              <a:r>
                <a:rPr b="0" lang="zh-CN" sz="5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00</a:t>
              </a:r>
              <a:r>
                <a:rPr b="0" lang="zh-CN" sz="5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米。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3" name="" descr=""/>
            <p:cNvPicPr/>
            <p:nvPr/>
          </p:nvPicPr>
          <p:blipFill>
            <a:blip r:embed="rId2"/>
            <a:stretch/>
          </p:blipFill>
          <p:spPr>
            <a:xfrm>
              <a:off x="6873840" y="3284640"/>
              <a:ext cx="1758960" cy="30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4" name=""/>
          <p:cNvSpPr/>
          <p:nvPr/>
        </p:nvSpPr>
        <p:spPr>
          <a:xfrm>
            <a:off x="539640" y="2637000"/>
            <a:ext cx="5184720" cy="2232000"/>
          </a:xfrm>
          <a:prstGeom prst="wedgeRoundRectCallout">
            <a:avLst>
              <a:gd name="adj1" fmla="val 87324"/>
              <a:gd name="adj2" fmla="val 15648"/>
              <a:gd name="adj3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同学们，你们能自己确定比例尺，把操场的平面图画下来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2627280" y="2565360"/>
            <a:ext cx="3816360" cy="172872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！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228600" y="2666880"/>
            <a:ext cx="8762760" cy="2895480"/>
            <a:chOff x="228600" y="2666880"/>
            <a:chExt cx="8762760" cy="2895480"/>
          </a:xfrm>
        </p:grpSpPr>
        <p:sp>
          <p:nvSpPr>
            <p:cNvPr id="317" name=""/>
            <p:cNvSpPr/>
            <p:nvPr/>
          </p:nvSpPr>
          <p:spPr>
            <a:xfrm>
              <a:off x="380880" y="2666880"/>
              <a:ext cx="853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ff"/>
                  </a:solidFill>
                  <a:latin typeface="宋体"/>
                </a:rPr>
                <a:t>试着写出图上的长、宽与实际的长、宽的比，并化简。</a:t>
              </a:r>
              <a:r>
                <a:rPr b="1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228600" y="3505320"/>
              <a:ext cx="8762760" cy="2057040"/>
              <a:chOff x="228600" y="3505320"/>
              <a:chExt cx="8762760" cy="2057040"/>
            </a:xfrm>
          </p:grpSpPr>
          <p:grpSp>
            <p:nvGrpSpPr>
              <p:cNvPr id="319" name=""/>
              <p:cNvGrpSpPr/>
              <p:nvPr/>
            </p:nvGrpSpPr>
            <p:grpSpPr>
              <a:xfrm>
                <a:off x="233280" y="3511080"/>
                <a:ext cx="8752320" cy="2044440"/>
                <a:chOff x="233280" y="3511080"/>
                <a:chExt cx="8752320" cy="2044440"/>
              </a:xfrm>
            </p:grpSpPr>
            <p:grpSp>
              <p:nvGrpSpPr>
                <p:cNvPr id="320" name=""/>
                <p:cNvGrpSpPr/>
                <p:nvPr/>
              </p:nvGrpSpPr>
              <p:grpSpPr>
                <a:xfrm>
                  <a:off x="233280" y="3511080"/>
                  <a:ext cx="1024920" cy="681480"/>
                  <a:chOff x="233280" y="3511080"/>
                  <a:chExt cx="1024920" cy="68148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>
                    <a:off x="306000" y="3511080"/>
                    <a:ext cx="879480" cy="681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200" spc="-1" strike="noStrike">
                        <a:solidFill>
                          <a:srgbClr val="000000"/>
                        </a:solidFill>
                        <a:latin typeface="宋体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233280" y="3511080"/>
                    <a:ext cx="1024920" cy="681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1258560" y="3511080"/>
                  <a:ext cx="1892880" cy="681480"/>
                  <a:chOff x="1258560" y="3511080"/>
                  <a:chExt cx="1892880" cy="68148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>
                    <a:off x="1330920" y="3511080"/>
                    <a:ext cx="1747800" cy="681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图上距离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1258560" y="3511080"/>
                    <a:ext cx="1892880" cy="681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3151800" y="3511080"/>
                  <a:ext cx="1892880" cy="681480"/>
                  <a:chOff x="3151800" y="3511080"/>
                  <a:chExt cx="1892880" cy="68148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>
                    <a:off x="3224520" y="3511080"/>
                    <a:ext cx="1747800" cy="681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实际距离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3151800" y="3511080"/>
                    <a:ext cx="1892880" cy="681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5045400" y="3511080"/>
                  <a:ext cx="3940200" cy="681480"/>
                  <a:chOff x="5045400" y="3511080"/>
                  <a:chExt cx="3940200" cy="6814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5118120" y="3511080"/>
                    <a:ext cx="3795120" cy="681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图上距离与实际距离的比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5045400" y="3511080"/>
                    <a:ext cx="3940200" cy="681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33280" y="4192920"/>
                  <a:ext cx="1024920" cy="681480"/>
                  <a:chOff x="233280" y="4192920"/>
                  <a:chExt cx="1024920" cy="6814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306000" y="4192920"/>
                    <a:ext cx="879480" cy="681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长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33280" y="4192920"/>
                    <a:ext cx="1024920" cy="681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1258560" y="4192920"/>
                  <a:ext cx="1892880" cy="681480"/>
                  <a:chOff x="1258560" y="4192920"/>
                  <a:chExt cx="1892880" cy="6814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1330920" y="4192920"/>
                    <a:ext cx="1747800" cy="681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200" spc="-1" strike="noStrike">
                        <a:solidFill>
                          <a:srgbClr val="000000"/>
                        </a:solidFill>
                        <a:latin typeface="宋体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1258560" y="4192920"/>
                    <a:ext cx="1892880" cy="681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3151800" y="4192920"/>
                  <a:ext cx="1892880" cy="681480"/>
                  <a:chOff x="3151800" y="4192920"/>
                  <a:chExt cx="1892880" cy="6814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3224520" y="4192920"/>
                    <a:ext cx="1747800" cy="681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200" spc="-1" strike="noStrike">
                        <a:solidFill>
                          <a:srgbClr val="000000"/>
                        </a:solidFill>
                        <a:latin typeface="宋体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3151800" y="4192920"/>
                    <a:ext cx="1892880" cy="681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5045400" y="4192920"/>
                  <a:ext cx="3940200" cy="681480"/>
                  <a:chOff x="5045400" y="4192920"/>
                  <a:chExt cx="3940200" cy="68148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5118120" y="4192920"/>
                    <a:ext cx="3795120" cy="681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200" spc="-1" strike="noStrike">
                        <a:solidFill>
                          <a:srgbClr val="000000"/>
                        </a:solidFill>
                        <a:latin typeface="宋体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5045400" y="4192920"/>
                    <a:ext cx="3940200" cy="681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33280" y="4874760"/>
                  <a:ext cx="1024920" cy="680760"/>
                  <a:chOff x="233280" y="4874760"/>
                  <a:chExt cx="1024920" cy="6807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306000" y="4874760"/>
                    <a:ext cx="879480" cy="68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宽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33280" y="4874760"/>
                    <a:ext cx="1024920" cy="680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1258560" y="4874760"/>
                  <a:ext cx="1892880" cy="680760"/>
                  <a:chOff x="1258560" y="4874760"/>
                  <a:chExt cx="1892880" cy="6807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1330920" y="4874760"/>
                    <a:ext cx="1747800" cy="68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200" spc="-1" strike="noStrike">
                        <a:solidFill>
                          <a:srgbClr val="000000"/>
                        </a:solidFill>
                        <a:latin typeface="宋体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1258560" y="4874760"/>
                    <a:ext cx="1892880" cy="680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3151800" y="4874760"/>
                  <a:ext cx="1892880" cy="680760"/>
                  <a:chOff x="3151800" y="4874760"/>
                  <a:chExt cx="1892880" cy="6807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3224520" y="4874760"/>
                    <a:ext cx="1747800" cy="68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200" spc="-1" strike="noStrike">
                        <a:solidFill>
                          <a:srgbClr val="000000"/>
                        </a:solidFill>
                        <a:latin typeface="宋体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3151800" y="4874760"/>
                    <a:ext cx="1892880" cy="680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5045400" y="4874760"/>
                  <a:ext cx="3940200" cy="680760"/>
                  <a:chOff x="5045400" y="4874760"/>
                  <a:chExt cx="3940200" cy="68076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5118120" y="4874760"/>
                    <a:ext cx="3795120" cy="68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200" spc="-1" strike="noStrike">
                        <a:solidFill>
                          <a:srgbClr val="000000"/>
                        </a:solidFill>
                        <a:latin typeface="宋体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5045400" y="4874760"/>
                    <a:ext cx="3940200" cy="680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56" name=""/>
              <p:cNvSpPr/>
              <p:nvPr/>
            </p:nvSpPr>
            <p:spPr>
              <a:xfrm>
                <a:off x="228600" y="3505320"/>
                <a:ext cx="8762760" cy="205704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228600" y="228600"/>
            <a:ext cx="8534520" cy="947160"/>
            <a:chOff x="228600" y="228600"/>
            <a:chExt cx="8534520" cy="947160"/>
          </a:xfrm>
        </p:grpSpPr>
        <p:pic>
          <p:nvPicPr>
            <p:cNvPr id="358" name="001773_0%5B1%5D" descr=""/>
            <p:cNvPicPr/>
            <p:nvPr/>
          </p:nvPicPr>
          <p:blipFill>
            <a:blip r:embed="rId2"/>
            <a:stretch/>
          </p:blipFill>
          <p:spPr>
            <a:xfrm>
              <a:off x="228600" y="228600"/>
              <a:ext cx="81900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1066680" y="228600"/>
              <a:ext cx="7696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红光小学有一块长方形草坪，长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0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米，宽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0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米。把这块草坪按一定的比例缩小，画出的平面图长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厘米，宽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厘米。你能分别写出草坪长、宽的图上距离和实际距离的比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1600200" y="41911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厘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505320" y="4191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50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638680" y="41911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∶1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600200" y="48769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厘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505320" y="48769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638680" y="48006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∶1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71640" y="1700280"/>
            <a:ext cx="73911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千米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    ）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米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   ）厘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千米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      ）厘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16765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26668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358128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00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3333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一 预习交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533520"/>
            <a:ext cx="83818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千米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     ）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千米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       ）厘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0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千米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        ）厘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00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厘米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    ）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300000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厘米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   ）千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6000000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厘米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  ）千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6094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4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152388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500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23623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20000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33526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84720" y="42210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27640" y="515772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6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510552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426708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95280" y="23140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设计一座厂房时，在平面图上用</a:t>
            </a: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10</a:t>
            </a: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厘米表示地面上</a:t>
            </a: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10</a:t>
            </a: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米的距离。求图上距离和实际距离的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8900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二 合作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2280" y="76212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图上距离和实际距离的比，叫做这幅图的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比例尺。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42920" y="2060640"/>
            <a:ext cx="8382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图上距离：实际距离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=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比例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835280" y="3645000"/>
            <a:ext cx="5133960" cy="103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59280" y="1484280"/>
            <a:ext cx="2881080" cy="216072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52720" y="3860640"/>
            <a:ext cx="119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厘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30320" y="2205000"/>
            <a:ext cx="109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厘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26440" y="620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教室平面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16280" y="4986360"/>
            <a:ext cx="3627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比例尺：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03280" y="1341360"/>
            <a:ext cx="6408720" cy="533736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3059280" y="0"/>
            <a:ext cx="3468600" cy="1191240"/>
            <a:chOff x="3059280" y="0"/>
            <a:chExt cx="3468600" cy="1191240"/>
          </a:xfrm>
        </p:grpSpPr>
        <p:sp>
          <p:nvSpPr>
            <p:cNvPr id="114" name=""/>
            <p:cNvSpPr/>
            <p:nvPr/>
          </p:nvSpPr>
          <p:spPr>
            <a:xfrm>
              <a:off x="3059280" y="73080"/>
              <a:ext cx="2881080" cy="10792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167640" y="0"/>
              <a:ext cx="3360240" cy="1191240"/>
              <a:chOff x="3167640" y="0"/>
              <a:chExt cx="3360240" cy="119124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3851280" y="0"/>
                <a:ext cx="2676600" cy="1191240"/>
                <a:chOff x="3851280" y="0"/>
                <a:chExt cx="2676600" cy="119124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3851280" y="0"/>
                  <a:ext cx="267660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0000"/>
                      </a:solidFill>
                      <a:latin typeface="Arial"/>
                    </a:rPr>
                    <a:t>1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0000"/>
                      </a:solidFill>
                      <a:latin typeface="Arial"/>
                    </a:rPr>
                    <a:t>400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751280" y="576000"/>
                  <a:ext cx="863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" name=""/>
              <p:cNvSpPr/>
              <p:nvPr/>
            </p:nvSpPr>
            <p:spPr>
              <a:xfrm>
                <a:off x="3167640" y="282600"/>
                <a:ext cx="125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比例尺</a:t>
                </a:r>
                <a:r>
                  <a:rPr b="1" lang="zh-CN" sz="32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: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4360" y="4762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332000" y="6095880"/>
            <a:ext cx="41767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比例尺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:1:45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7T08:44:30Z</dcterms:created>
  <dc:creator>绿色圃中小学教育网http://www.lspjy.com</dc:creator>
  <dc:description>绿色圃中小学教育网http://www.lspjy.com</dc:description>
  <cp:keywords>绿色圃中小学教育网http://www.lspjy.com</cp:keywords>
  <dc:language>en-US</dc:language>
  <cp:lastModifiedBy>Administrator</cp:lastModifiedBy>
  <dcterms:modified xsi:type="dcterms:W3CDTF">2013-03-31T12:51:58Z</dcterms:modified>
  <cp:revision>37</cp:revision>
  <dc:subject>绿色圃中小学教育网http://www.lspjy.com</dc:subject>
  <dc:title>绿色圃中小学教育网http://www.lspjy.com</dc:title>
</cp:coreProperties>
</file>